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833A-3440-490A-A9CD-9509AF7538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артамент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сновные параметры прогноза социально-экономического развития области на 2009-2011 г.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Семе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9A58-A7F9-4B1A-A227-FF1C524E7A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В. Моск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8879-45EF-4C95-A0BC-EF5780F552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70E5-551B-4809-B206-6EB51661A1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9817-48C4-4694-9C38-EB748820DD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E12E-FE48-4E7B-9E85-FB039EB477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артамент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араметры прогноза социально-экономического развития области на 2008-2010 г.г., о разработке Программы на среднесроч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Семе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F350-3218-4189-8685-9DF62AA904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3EFA-8F65-43E3-B78C-9865C3B2C3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ал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090A-8638-4685-81F1-C2ED000E53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2D6D-A5BA-47EC-BF16-58D3ACD674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FEA6-6034-4EBD-AEF5-243A7A2DEE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6580-EA97-4480-80A8-44DCA3A9F5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4B53-2895-4A95-B048-C9CD7C2B42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B5E-EF17-4AB9-9CDB-09248BCB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72E-1A56-4DEF-AE2C-BE269B5A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CA3-37CB-4775-80AD-1DF1A6F6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EB0-D1CE-4F37-A0C7-198E9705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826D-4285-49DB-A6C1-22BF0B65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D3AF-1875-4659-AA5F-128D7CB3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4CB6-F446-486D-A665-1CE74D04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49C0-8F74-41ED-AAE8-375A7540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A0F1-9182-4752-BFC6-7E4E75D7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7BD1-3AFF-4E0C-959E-3747BFF4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0F2D-79D8-4DF0-9CB2-4832C783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88A3-ADAD-4BB2-8D85-28C1B118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0A4E-D768-4538-A567-9B2B96D3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67BD-DAEA-4123-B6C5-01821DCD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DC86-4776-47BE-B612-912D926B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20AB-AF38-4FE9-ACAD-F4C90857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6A07-BEE6-4E6A-BC2C-485E8D9B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FDF1-9C3A-459B-BE78-11839ECC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F454-DA6C-4F81-9591-05C9A195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9DE0F-2B17-4657-8BB2-A2824483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78D61-63F1-4257-B748-F9D5C796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F467B-8089-468C-BB79-55065FE4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7AA-1F4B-4437-BDF2-03AF3532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C4AC4-584A-459A-A125-18A451A4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0B8FE-1CA8-46BD-8462-31CE6E19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9368B-B030-4D0B-A410-FC093B2B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E7D89-5870-46FF-8383-6565B7A0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8CD9-971C-4F13-85D1-E0844245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22595-8ADA-4CC9-B205-69647FC1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DDA7A-7D85-410F-911D-890A5040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271-B761-4987-9FD8-2A4D1925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197-75BE-49AA-9130-6A2C32CE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17A-BE29-49FA-A7DB-5BBB71DA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35F-1000-4257-9230-213BC024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6A9-B1B8-49FF-A6CC-D2391EB1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263-6543-468E-85A6-4F018F56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34A7-9DC8-47F1-AD48-6BC7898A883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8648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3B55-870E-4BE9-9FD1-A71AD1B3A0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B3AF-DB37-4EE0-8580-EC98CB744E0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8648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AB67-0231-4484-A38A-E04E0BC28B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8648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03E9-F3DD-4E01-A770-C59A9FACF0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Documents and Settings\yuriryab\Рабочий стол\Карта России-Мурманск.jpg"/>
          <p:cNvPicPr/>
          <p:nvPr/>
        </p:nvPicPr>
        <p:blipFill>
          <a:blip r:embed="rId1"/>
          <a:stretch/>
        </p:blipFill>
        <p:spPr>
          <a:xfrm>
            <a:off x="762120" y="762120"/>
            <a:ext cx="7500960" cy="4179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0" y="2143080"/>
            <a:ext cx="9144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О ЛЕКАРСТВЕННОМ ОБЕСПЕЧ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ЛЬГОТНЫХ КАТЕГОРИЙ ГРАЖДА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Заместитель министра здравоохра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Мурманской области  Л.Г.Уша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934320" y="1295280"/>
            <a:ext cx="220968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10 сентября 201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г. Мурм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9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97AE-5A11-499E-897C-38B06B2A14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6711840" y="5373720"/>
            <a:ext cx="2432160" cy="1484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0" y="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оординационный совет по делам ветер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и Губернаторе Мурманск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РАВНЕНИЕ ЦЕН НА ЛЕКАРСТВЕННЫЕ ПРЕПАРА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99680" y="114300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портный препа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цетилсалициловая кисло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ромбоАсс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35 ру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мброксол таб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мброксол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76 ру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отаверин таб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о-шпа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5-238 ру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пирама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опамакс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900-3600 ру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0" y="11685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ечественный препа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цетилсалициловая кисл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спикор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9-35 ру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мброксол таб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мброксол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9-72 ру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отаверин та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Дротаверин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4-47 ру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пирама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опалепсин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00-600 ру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4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DAA5-468B-4E69-823B-FDB97EAE32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188" name="Заголовок 1"/>
          <p:cNvSpPr/>
          <p:nvPr/>
        </p:nvSpPr>
        <p:spPr>
          <a:xfrm>
            <a:off x="0" y="5000760"/>
            <a:ext cx="91440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чани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данным мониторинга цен на фармацевтическом рынке Мурман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по состоянию на 01.08.2014 год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данным Федеральной службы по надзору в сфере здравоохранения РФ во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I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вартале 2014 года отмечается рост цен на отечественные препараты 1,81%, на импортные препараты - 4,3% относительно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вартала, и 3,61 % на отечественные препараты  и 10,4% на импортные относительно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вартала 2013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Заголовок 1"/>
          <p:cNvSpPr/>
          <p:nvPr/>
        </p:nvSpPr>
        <p:spPr>
          <a:xfrm>
            <a:off x="0" y="0"/>
            <a:ext cx="8001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Ы СТОИМОСТИ ЛЕ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ОРФАННЫХ ЗАБОЛЕ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28760" y="10717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личество больных: в 2013 году – 88 человек, в 2014 году - 116 че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личество больных получающих льготные препараты: 63 че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1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0B29-2A9B-46AB-ACB0-EE18DDB0E3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4500720" y="3143160"/>
            <a:ext cx="3867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8"/>
          <p:cNvSpPr/>
          <p:nvPr/>
        </p:nvSpPr>
        <p:spPr>
          <a:xfrm>
            <a:off x="500040" y="2286000"/>
            <a:ext cx="3857760" cy="1857240"/>
          </a:xfrm>
          <a:prstGeom prst="rect">
            <a:avLst/>
          </a:prstGeom>
          <a:solidFill>
            <a:srgbClr val="c6d9f1"/>
          </a:solidFill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ольной М., диагно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роксизмальная ночная гемоглобинур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ечение на месяц – 0,950 млн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ечение на год – 11,5 м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9"/>
          <p:cNvSpPr/>
          <p:nvPr/>
        </p:nvSpPr>
        <p:spPr>
          <a:xfrm>
            <a:off x="4714920" y="2286000"/>
            <a:ext cx="3855960" cy="1876320"/>
          </a:xfrm>
          <a:prstGeom prst="rect">
            <a:avLst/>
          </a:prstGeom>
          <a:solidFill>
            <a:srgbClr val="c6d9f1"/>
          </a:solidFill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ольной П., диагно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укополисахаридо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ип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Синдром Гу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ечение на месяц – 1,350 м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ечение на год – 16,2 м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0"/>
          <p:cNvSpPr/>
          <p:nvPr/>
        </p:nvSpPr>
        <p:spPr>
          <a:xfrm>
            <a:off x="500040" y="4357800"/>
            <a:ext cx="3857760" cy="1857240"/>
          </a:xfrm>
          <a:prstGeom prst="rect">
            <a:avLst/>
          </a:prstGeom>
          <a:solidFill>
            <a:srgbClr val="c6d9f1"/>
          </a:solidFill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ольной С., диа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Юношеский артрит с системным началом. Болезнь Сти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ечение на месяц - 0,65 м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ечение на год - 7,8 м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1"/>
          <p:cNvSpPr/>
          <p:nvPr/>
        </p:nvSpPr>
        <p:spPr>
          <a:xfrm>
            <a:off x="4714920" y="4357800"/>
            <a:ext cx="3857760" cy="1857240"/>
          </a:xfrm>
          <a:prstGeom prst="rect">
            <a:avLst/>
          </a:prstGeom>
          <a:solidFill>
            <a:srgbClr val="c6d9f1"/>
          </a:solidFill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ольной А., диа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егочная артериальная гипертенз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ечение на месяц - 0,5 м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ечение на год - 6,0 м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Заголовок 1"/>
          <p:cNvSpPr/>
          <p:nvPr/>
        </p:nvSpPr>
        <p:spPr>
          <a:xfrm>
            <a:off x="0" y="0"/>
            <a:ext cx="8072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ЕСПЕЧЕНИЕ ЛЕКАРСТВЕННЫМИ ПРЕПАРАТАМИ ЛЬГОТНЫХ КАТЕГОРИЙ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1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ED5C-AE30-4ABE-8AB3-6A6DA845CC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6"/>
          <p:cNvSpPr/>
          <p:nvPr/>
        </p:nvSpPr>
        <p:spPr>
          <a:xfrm>
            <a:off x="3357720" y="785880"/>
            <a:ext cx="2643120" cy="5000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ьготополуч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8"/>
          <p:cNvSpPr/>
          <p:nvPr/>
        </p:nvSpPr>
        <p:spPr>
          <a:xfrm>
            <a:off x="3357720" y="1500120"/>
            <a:ext cx="2643120" cy="5000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кли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9"/>
          <p:cNvSpPr/>
          <p:nvPr/>
        </p:nvSpPr>
        <p:spPr>
          <a:xfrm>
            <a:off x="3357720" y="2214720"/>
            <a:ext cx="2643120" cy="5000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иска рецеп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программа Е-Фар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0"/>
          <p:cNvSpPr/>
          <p:nvPr/>
        </p:nvSpPr>
        <p:spPr>
          <a:xfrm>
            <a:off x="3357720" y="2928960"/>
            <a:ext cx="2643120" cy="5000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нкты отпу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1"/>
          <p:cNvSpPr/>
          <p:nvPr/>
        </p:nvSpPr>
        <p:spPr>
          <a:xfrm>
            <a:off x="285840" y="3929040"/>
            <a:ext cx="2500200" cy="5000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парат в налич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2"/>
          <p:cNvSpPr/>
          <p:nvPr/>
        </p:nvSpPr>
        <p:spPr>
          <a:xfrm>
            <a:off x="6005520" y="3929040"/>
            <a:ext cx="2852640" cy="5000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 пре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3"/>
          <p:cNvSpPr/>
          <p:nvPr/>
        </p:nvSpPr>
        <p:spPr>
          <a:xfrm>
            <a:off x="3429000" y="5357880"/>
            <a:ext cx="2071800" cy="5000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авка или Заку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4"/>
          <p:cNvSpPr/>
          <p:nvPr/>
        </p:nvSpPr>
        <p:spPr>
          <a:xfrm>
            <a:off x="6000840" y="5357880"/>
            <a:ext cx="2857320" cy="5000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лномоченная фарм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5"/>
          <p:cNvSpPr/>
          <p:nvPr/>
        </p:nvSpPr>
        <p:spPr>
          <a:xfrm>
            <a:off x="6000840" y="4643280"/>
            <a:ext cx="2852640" cy="50040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сроченн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6"/>
          <p:cNvSpPr/>
          <p:nvPr/>
        </p:nvSpPr>
        <p:spPr>
          <a:xfrm>
            <a:off x="285840" y="5357880"/>
            <a:ext cx="2500200" cy="50004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Прямая со стрелкой 18"/>
          <p:cNvCxnSpPr>
            <a:stCxn id="201" idx="2"/>
            <a:endCxn id="202" idx="0"/>
          </p:cNvCxnSpPr>
          <p:nvPr/>
        </p:nvCxnSpPr>
        <p:spPr>
          <a:xfrm flipH="1">
            <a:off x="4677480" y="1285560"/>
            <a:ext cx="2520" cy="214920"/>
          </a:xfrm>
          <a:prstGeom prst="straightConnector1">
            <a:avLst/>
          </a:prstGeom>
          <a:ln w="2844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212" name="Прямая со стрелкой 20"/>
          <p:cNvCxnSpPr>
            <a:stCxn id="202" idx="2"/>
            <a:endCxn id="203" idx="0"/>
          </p:cNvCxnSpPr>
          <p:nvPr/>
        </p:nvCxnSpPr>
        <p:spPr>
          <a:xfrm flipH="1">
            <a:off x="4677480" y="2000160"/>
            <a:ext cx="2520" cy="215280"/>
          </a:xfrm>
          <a:prstGeom prst="straightConnector1">
            <a:avLst/>
          </a:prstGeom>
          <a:ln w="2844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213" name="Прямая со стрелкой 23"/>
          <p:cNvCxnSpPr>
            <a:stCxn id="203" idx="2"/>
            <a:endCxn id="204" idx="0"/>
          </p:cNvCxnSpPr>
          <p:nvPr/>
        </p:nvCxnSpPr>
        <p:spPr>
          <a:xfrm flipH="1">
            <a:off x="4677480" y="2714400"/>
            <a:ext cx="2520" cy="214920"/>
          </a:xfrm>
          <a:prstGeom prst="straightConnector1">
            <a:avLst/>
          </a:prstGeom>
          <a:ln w="2844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214" name="Прямая со стрелкой 25"/>
          <p:cNvCxnSpPr>
            <a:stCxn id="204" idx="2"/>
            <a:endCxn id="206" idx="0"/>
          </p:cNvCxnSpPr>
          <p:nvPr/>
        </p:nvCxnSpPr>
        <p:spPr>
          <a:xfrm>
            <a:off x="4677120" y="3428640"/>
            <a:ext cx="2753640" cy="500760"/>
          </a:xfrm>
          <a:prstGeom prst="straightConnector1">
            <a:avLst/>
          </a:prstGeom>
          <a:ln w="2844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215" name="Прямая со стрелкой 27"/>
          <p:cNvCxnSpPr>
            <a:stCxn id="204" idx="2"/>
            <a:endCxn id="205" idx="0"/>
          </p:cNvCxnSpPr>
          <p:nvPr/>
        </p:nvCxnSpPr>
        <p:spPr>
          <a:xfrm flipH="1">
            <a:off x="1534680" y="3428640"/>
            <a:ext cx="3145680" cy="500760"/>
          </a:xfrm>
          <a:prstGeom prst="straightConnector1">
            <a:avLst/>
          </a:prstGeom>
          <a:ln w="2844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216" name="Прямая со стрелкой 29"/>
          <p:cNvCxnSpPr>
            <a:stCxn id="206" idx="2"/>
            <a:endCxn id="209" idx="0"/>
          </p:cNvCxnSpPr>
          <p:nvPr/>
        </p:nvCxnSpPr>
        <p:spPr>
          <a:xfrm flipH="1">
            <a:off x="7427160" y="4428720"/>
            <a:ext cx="3960" cy="214920"/>
          </a:xfrm>
          <a:prstGeom prst="straightConnector1">
            <a:avLst/>
          </a:prstGeom>
          <a:ln w="2844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217" name="Прямая со стрелкой 31"/>
          <p:cNvCxnSpPr>
            <a:stCxn id="209" idx="2"/>
            <a:endCxn id="208" idx="0"/>
          </p:cNvCxnSpPr>
          <p:nvPr/>
        </p:nvCxnSpPr>
        <p:spPr>
          <a:xfrm>
            <a:off x="7426800" y="5143320"/>
            <a:ext cx="2520" cy="214920"/>
          </a:xfrm>
          <a:prstGeom prst="straightConnector1">
            <a:avLst/>
          </a:prstGeom>
          <a:ln w="2844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218" name="Прямая со стрелкой 33"/>
          <p:cNvCxnSpPr>
            <a:stCxn id="208" idx="1"/>
            <a:endCxn id="207" idx="3"/>
          </p:cNvCxnSpPr>
          <p:nvPr/>
        </p:nvCxnSpPr>
        <p:spPr>
          <a:xfrm flipH="1" flipV="1">
            <a:off x="5500080" y="5608440"/>
            <a:ext cx="500760" cy="2160"/>
          </a:xfrm>
          <a:prstGeom prst="straightConnector1">
            <a:avLst/>
          </a:prstGeom>
          <a:ln w="2844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219" name="Прямая со стрелкой 35"/>
          <p:cNvCxnSpPr>
            <a:stCxn id="207" idx="1"/>
            <a:endCxn id="210" idx="3"/>
          </p:cNvCxnSpPr>
          <p:nvPr/>
        </p:nvCxnSpPr>
        <p:spPr>
          <a:xfrm flipH="1" flipV="1">
            <a:off x="2786040" y="5608440"/>
            <a:ext cx="643320" cy="2160"/>
          </a:xfrm>
          <a:prstGeom prst="straightConnector1">
            <a:avLst/>
          </a:prstGeom>
          <a:ln w="2844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220" name="Прямая со стрелкой 38"/>
          <p:cNvCxnSpPr>
            <a:stCxn id="205" idx="2"/>
            <a:endCxn id="210" idx="0"/>
          </p:cNvCxnSpPr>
          <p:nvPr/>
        </p:nvCxnSpPr>
        <p:spPr>
          <a:xfrm flipH="1">
            <a:off x="1534320" y="4430520"/>
            <a:ext cx="2520" cy="929160"/>
          </a:xfrm>
          <a:prstGeom prst="straightConnector1">
            <a:avLst/>
          </a:prstGeom>
          <a:ln w="28440">
            <a:solidFill>
              <a:srgbClr val="ff5050"/>
            </a:solidFill>
            <a:miter/>
            <a:tailEnd len="med" type="arrow" w="med"/>
          </a:ln>
        </p:spPr>
      </p:cxnSp>
      <p:sp>
        <p:nvSpPr>
          <p:cNvPr id="221" name="Заголовок 1"/>
          <p:cNvSpPr/>
          <p:nvPr/>
        </p:nvSpPr>
        <p:spPr>
          <a:xfrm>
            <a:off x="0" y="6215040"/>
            <a:ext cx="8501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чание: в соответствии с заключенными контрактами имеется 34 пункта отпуска по всей Мурманской области, в т.ч. г. Мурманске – 1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2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НАПРАВЛЕНИЯ СОВЕРШЕНСТВОВАНИЯ  СИСТЕМЫ ЛЕКАРСТВЕННЫХ ЛЬГОТ в 2014 год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4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2D08-4FEC-45CF-829B-E53ACB03AA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285840" y="1857240"/>
            <a:ext cx="4100400" cy="187668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Использование единого программного проду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Е-ФАРМА и РИСМ заявка на территории вс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Мурманской области для автоматизации все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оцессов лекарственного обеспеч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льготных категорий граждан за счет бюдже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азных уров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714920" y="1785960"/>
            <a:ext cx="4157640" cy="18716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250920" y="4152960"/>
            <a:ext cx="4100400" cy="179712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738680" y="4154400"/>
            <a:ext cx="4154400" cy="1795680"/>
          </a:xfrm>
          <a:prstGeom prst="rect">
            <a:avLst/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3"/>
          <p:cNvGrpSpPr/>
          <p:nvPr/>
        </p:nvGrpSpPr>
        <p:grpSpPr>
          <a:xfrm>
            <a:off x="3672000" y="3181320"/>
            <a:ext cx="1659960" cy="1658880"/>
            <a:chOff x="3672000" y="3181320"/>
            <a:chExt cx="1659960" cy="1658880"/>
          </a:xfrm>
        </p:grpSpPr>
        <p:pic>
          <p:nvPicPr>
            <p:cNvPr id="229" name="Picture 34" descr="circuler_1"/>
            <p:cNvPicPr/>
            <p:nvPr/>
          </p:nvPicPr>
          <p:blipFill>
            <a:blip r:embed="rId1"/>
            <a:stretch/>
          </p:blipFill>
          <p:spPr>
            <a:xfrm>
              <a:off x="3704040" y="3209040"/>
              <a:ext cx="1602720" cy="154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" name="Oval 35"/>
            <p:cNvGrpSpPr/>
            <p:nvPr/>
          </p:nvGrpSpPr>
          <p:grpSpPr>
            <a:xfrm>
              <a:off x="3672000" y="3181320"/>
              <a:ext cx="1659960" cy="1612440"/>
              <a:chOff x="3672000" y="3181320"/>
              <a:chExt cx="1659960" cy="1612440"/>
            </a:xfrm>
          </p:grpSpPr>
          <p:pic>
            <p:nvPicPr>
              <p:cNvPr id="231" name="Oval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72000" y="3181320"/>
                <a:ext cx="1659960" cy="161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>
                <a:off x="3936600" y="3436920"/>
                <a:ext cx="1126440" cy="10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Freeform 36"/>
            <p:cNvSpPr/>
            <p:nvPr/>
          </p:nvSpPr>
          <p:spPr>
            <a:xfrm>
              <a:off x="3869640" y="3240720"/>
              <a:ext cx="1250640" cy="537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37"/>
            <p:cNvGrpSpPr/>
            <p:nvPr/>
          </p:nvGrpSpPr>
          <p:grpSpPr>
            <a:xfrm>
              <a:off x="3817800" y="4279680"/>
              <a:ext cx="1405080" cy="560520"/>
              <a:chOff x="3817800" y="4279680"/>
              <a:chExt cx="1405080" cy="560520"/>
            </a:xfrm>
          </p:grpSpPr>
          <p:grpSp>
            <p:nvGrpSpPr>
              <p:cNvPr id="235" name="Group 38"/>
              <p:cNvGrpSpPr/>
              <p:nvPr/>
            </p:nvGrpSpPr>
            <p:grpSpPr>
              <a:xfrm>
                <a:off x="4062960" y="4279680"/>
                <a:ext cx="1159920" cy="525960"/>
                <a:chOff x="4062960" y="4279680"/>
                <a:chExt cx="1159920" cy="525960"/>
              </a:xfrm>
            </p:grpSpPr>
            <p:sp>
              <p:nvSpPr>
                <p:cNvPr id="236" name="AutoShape 39"/>
                <p:cNvSpPr/>
                <p:nvPr/>
              </p:nvSpPr>
              <p:spPr>
                <a:xfrm flipH="1" flipV="1" rot="3964800">
                  <a:off x="4695480" y="4119840"/>
                  <a:ext cx="200520" cy="844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40"/>
                <p:cNvSpPr/>
                <p:nvPr/>
              </p:nvSpPr>
              <p:spPr>
                <a:xfrm flipH="1" flipV="1" rot="4780200">
                  <a:off x="4565520" y="4172400"/>
                  <a:ext cx="200520" cy="84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AutoShape 41"/>
                <p:cNvSpPr/>
                <p:nvPr/>
              </p:nvSpPr>
              <p:spPr>
                <a:xfrm flipH="1" flipV="1" rot="5076000">
                  <a:off x="4485600" y="4183920"/>
                  <a:ext cx="200520" cy="84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AutoShape 42"/>
                <p:cNvSpPr/>
                <p:nvPr/>
              </p:nvSpPr>
              <p:spPr>
                <a:xfrm flipH="1" flipV="1" rot="5608200">
                  <a:off x="4389480" y="4193280"/>
                  <a:ext cx="200520" cy="84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Group 43"/>
              <p:cNvGrpSpPr/>
              <p:nvPr/>
            </p:nvGrpSpPr>
            <p:grpSpPr>
              <a:xfrm>
                <a:off x="3817800" y="4288680"/>
                <a:ext cx="1158480" cy="551520"/>
                <a:chOff x="3817800" y="4288680"/>
                <a:chExt cx="1158480" cy="551520"/>
              </a:xfrm>
            </p:grpSpPr>
            <p:sp>
              <p:nvSpPr>
                <p:cNvPr id="241" name="AutoShape 44"/>
                <p:cNvSpPr/>
                <p:nvPr/>
              </p:nvSpPr>
              <p:spPr>
                <a:xfrm flipH="1" flipV="1" rot="5317800">
                  <a:off x="4450680" y="4194000"/>
                  <a:ext cx="201960" cy="84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AutoShape 45"/>
                <p:cNvSpPr/>
                <p:nvPr/>
              </p:nvSpPr>
              <p:spPr>
                <a:xfrm flipH="1" flipV="1" rot="6133800">
                  <a:off x="4310640" y="4191480"/>
                  <a:ext cx="201960" cy="84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AutoShape 46"/>
                <p:cNvSpPr/>
                <p:nvPr/>
              </p:nvSpPr>
              <p:spPr>
                <a:xfrm flipH="1" flipV="1" rot="6429000">
                  <a:off x="4231800" y="4170600"/>
                  <a:ext cx="201960" cy="84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AutoShape 47"/>
                <p:cNvSpPr/>
                <p:nvPr/>
              </p:nvSpPr>
              <p:spPr>
                <a:xfrm flipH="1" flipV="1" rot="6961200">
                  <a:off x="4140000" y="4142520"/>
                  <a:ext cx="201960" cy="84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Text Box 12"/>
          <p:cNvSpPr/>
          <p:nvPr/>
        </p:nvSpPr>
        <p:spPr>
          <a:xfrm>
            <a:off x="264960" y="4635360"/>
            <a:ext cx="407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Актуализация перечней лекарственных препаратов, закупаемых и отпускаемых гражданам за счет средств областного и федерального бюдж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4780080" y="2050920"/>
            <a:ext cx="407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оздание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офамильного учета граждан, имеющих право на льготное лекарственное обесп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857840" y="4429080"/>
            <a:ext cx="3922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Формирование рациональной и сбалансированной с имеющимися ресурсами медицинских организаций системы лекарственного обеспечения населения Мурма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C:\Documents and Settings\yuriryab\Рабочий стол\Шаблон-Мурманск-2.jpg"/>
          <p:cNvPicPr/>
          <p:nvPr/>
        </p:nvPicPr>
        <p:blipFill>
          <a:blip r:embed="rId3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1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EAEF-84B9-4562-9DBA-F78DC297CC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001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РОПРИЯТИЯ ПО УЛУЧШЕНИЮ СИТУ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ОБЕСПЕЧЕНИЕМ ЛЕКАРСТВЕННЫМИ ПРЕПАРАТАМИ ЛЬГОТНЫХ КАТЕГОРИЙ ГРАЖД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1000080"/>
            <a:ext cx="89298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357120" y="1214280"/>
            <a:ext cx="85010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стерство здравоохранения Мурманской области проводит инвентаризацию расходных обязательств, утвержденных на 2014 год, и изыскивает средства для проведения дополнительных аукционов по приобретению необходимых лекарственных препаратов для льготных категорий граждан Мурман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стерство здравоохранения Мурманской области готовит обращение Губернатора Мурманской области в адрес Министерства здравоохранения Российской Федерации по дополнительному федеральному финансированию больных с орфанными заболеваниями (по рекомендации федеральных клини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лючен Государственный контракт на доработку программного продукта «Е-Фарма», в том числе для формирования персонифицированной заявки. Эффективное планирование - это гарантия своевременного получения лекарственных препара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стерство здравоохранения Мурманской области проводит организационно-контрольные мероприятия, направленные на недопущение выписки лекарственных препаратов по торговым (фирменным) наименован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стерство здравоохранения Мурманской области в настоящий период проводит работу по составлению заявки на лекарственные препараты на 2015 год на основании пофамильной (персонифицированной) потребности, составленной медицинскими организац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C:\Documents and Settings\yuriryab\Рабочий стол\Карта России-Мурманск.jpg"/>
          <p:cNvPicPr/>
          <p:nvPr/>
        </p:nvPicPr>
        <p:blipFill>
          <a:blip r:embed="rId1"/>
          <a:stretch/>
        </p:blipFill>
        <p:spPr>
          <a:xfrm>
            <a:off x="857160" y="1071720"/>
            <a:ext cx="7502760" cy="41796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324000" y="5181480"/>
            <a:ext cx="8591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6359400" y="765000"/>
            <a:ext cx="255600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10 сентября 2014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г. Мурма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0" y="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7500960" y="5857920"/>
            <a:ext cx="1658880" cy="101268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1"/>
          <p:cNvSpPr/>
          <p:nvPr/>
        </p:nvSpPr>
        <p:spPr>
          <a:xfrm>
            <a:off x="2959200" y="3259080"/>
            <a:ext cx="3225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лагодарю за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76320" y="5765760"/>
            <a:ext cx="457200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Заместитель министра здравоохранения Мурма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Л.Г.Уша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1"/>
          <p:cNvSpPr/>
          <p:nvPr/>
        </p:nvSpPr>
        <p:spPr>
          <a:xfrm>
            <a:off x="0" y="0"/>
            <a:ext cx="80722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ЧЕНЬ ЛЬГОТНЫХ КАТЕГОРИЙ ГРАЖД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УЧАЮЩИХ ЛЬГОТНОЕ ЛЕКАРСТВЕН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4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AC34-0323-496C-B468-31BF7E28C7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79280" y="1071720"/>
            <a:ext cx="8507520" cy="50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оциальных групп насел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том числе инвалид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1, 2, 3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уппы по всем видам заболева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всего 13 059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че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ек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беспечиваются бесплатны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екарства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соответствии с федеральным законом о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17.07.1999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178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Ф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 государственной социальной помощ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 счет средств федерального бюджета 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умм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179 081,03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ы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у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2 социальных групп и 31 категория заболеваний имеют право на бесплатное обеспечение лекарственными средствами за счет средств регионального бюджета, в соответствии с Постановлением Правительства Российской Федерации от 30.07.1994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 890 «О государственной поддержке развития медицинской промышленности  и улучшения обеспечения населения и учреждений здравоохранения лекарственными средствами и изделиями медицинского назначения». Всего 69 030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этом 9 групп федеральных льготников перечислены в Постановлении Правительства РФ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 30.07.1994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 890 и имеют право на получение бесплатного лекарственного обеспечения за счет средств федерального и регионального бюдже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142" name="Номер слайда 23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2F52-F435-4753-85DF-0CB1464B3D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14200" y="1214280"/>
          <a:ext cx="8715600" cy="5330880"/>
        </p:xfrm>
        <a:graphic>
          <a:graphicData uri="http://schemas.openxmlformats.org/drawingml/2006/table">
            <a:tbl>
              <a:tblPr/>
              <a:tblGrid>
                <a:gridCol w="3086280"/>
                <a:gridCol w="1125360"/>
                <a:gridCol w="1127160"/>
                <a:gridCol w="1125720"/>
                <a:gridCol w="1125360"/>
                <a:gridCol w="1125720"/>
              </a:tblGrid>
              <a:tr h="4006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Категории гражд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Мурман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Архангель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Вологод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Новгород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Псков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080">
                <a:tc>
                  <a:txBody>
                    <a:bodyPr lIns="7200" rIns="7200" tIns="72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Дети первых трех лет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7200" rIns="7200" tIns="72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Дети из многодетных семей в возрасте до 6-ти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7200" rIns="7200" tIns="72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Лица, страдающие заболеваниями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категории которых входят в перечень, установленный Приложением № 1 к Постановлению Правительства РФ от 30.07.1994 № 8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7200" rIns="7200" tIns="72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Граждане из числа малочисленных народов Севера, проживающие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840">
                <a:tc>
                  <a:txBody>
                    <a:bodyPr lIns="7200" rIns="7200" tIns="72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Категории граждан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перечисленные в приложении № 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к Постановлению Правительства РФ от 30.07.1994 № 8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7200" rIns="7200" tIns="72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Граждане, страдающие социально-значимыми заболеваниями и заболеваниями, представляющими опасность для окружа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7200" rIns="7200" tIns="72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Граждане, находящиеся на хроническом диали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7200" rIns="7200" tIns="72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Труженики тыла (со скидкой 5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7200" rIns="7200" tIns="72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Реабилитированные лица, и лица, признанные пострадавшими от политических репрессий (со скидкой 50 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1"/>
          <p:cNvSpPr/>
          <p:nvPr/>
        </p:nvSpPr>
        <p:spPr>
          <a:xfrm>
            <a:off x="0" y="5040"/>
            <a:ext cx="8072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ЧЕТ КОНТРОЛЬНО-СЧЕТНОЙ ПАЛАТЫ МУРМА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 РЕЗУЛЬТАТАХ ЭКСПЕРТНО-АНАЛИТИЧЕСКОГО МЕРОПРИЯТ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АНАЛИЗ ЭФФЕКТИВНОСТИ ИСПОЛЬЗОВАНИЯ СРЕДСТВ ОБЛАСТНОГО БЮДЖЕТА НА БЕСПЛАТНОЕ И ЛЬГОТНОЕ ЛЕКАРСТВЕННОЕ ОБЕСПЕЧЕНИЕ ГРАЖДАН, ПРОХОДЯЩИХ ЛЕЧЕНИЕ В АМБУЛАТОРНЫХ УСЛОВИЯХ НА ТЕРРИТОРИИ МУРМАНСКОЙ ОБЛА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ИНАМИКА ЧИСЛЕННОСТИ ОТДЕЛЬНЫХ КАТЕГОРИ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АЖДАН, ИМЕЮЩИХ ПРАВО НА Л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5" descr=""/>
          <p:cNvPicPr/>
          <p:nvPr/>
        </p:nvPicPr>
        <p:blipFill>
          <a:blip r:embed="rId1"/>
          <a:stretch/>
        </p:blipFill>
        <p:spPr>
          <a:xfrm>
            <a:off x="785880" y="1366920"/>
            <a:ext cx="7588080" cy="4979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148" name="Номер слайда 10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A328-B080-4A4F-B11C-93549678CD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ИНАМИКА КОЛИЧЕСТВА ЛЬГОТНИКОВ С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ЦИАЛЬНО-ЗНАЧИМЫМИ ЗАБОЛЕВА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1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6240-5527-4AEC-BB8A-A329F734B5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3429000" y="3213000"/>
            <a:ext cx="493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pic>
        <p:nvPicPr>
          <p:cNvPr id="153" name="Содержимое 5" descr=""/>
          <p:cNvPicPr/>
          <p:nvPr/>
        </p:nvPicPr>
        <p:blipFill>
          <a:blip r:embed="rId2"/>
          <a:stretch/>
        </p:blipFill>
        <p:spPr>
          <a:xfrm>
            <a:off x="0" y="857160"/>
            <a:ext cx="4714920" cy="339876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3" descr=""/>
          <p:cNvPicPr/>
          <p:nvPr/>
        </p:nvPicPr>
        <p:blipFill>
          <a:blip r:embed="rId3"/>
          <a:stretch/>
        </p:blipFill>
        <p:spPr>
          <a:xfrm>
            <a:off x="4572000" y="928800"/>
            <a:ext cx="4357800" cy="314316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4" descr=""/>
          <p:cNvPicPr/>
          <p:nvPr/>
        </p:nvPicPr>
        <p:blipFill>
          <a:blip r:embed="rId4"/>
          <a:stretch/>
        </p:blipFill>
        <p:spPr>
          <a:xfrm>
            <a:off x="142920" y="3571920"/>
            <a:ext cx="4143240" cy="3071880"/>
          </a:xfrm>
          <a:prstGeom prst="rect">
            <a:avLst/>
          </a:prstGeom>
          <a:ln w="0">
            <a:noFill/>
          </a:ln>
        </p:spPr>
      </p:pic>
      <p:pic>
        <p:nvPicPr>
          <p:cNvPr id="156" name="Диаграмма 11" descr=""/>
          <p:cNvPicPr/>
          <p:nvPr/>
        </p:nvPicPr>
        <p:blipFill>
          <a:blip r:embed="rId5"/>
          <a:stretch/>
        </p:blipFill>
        <p:spPr>
          <a:xfrm>
            <a:off x="4421160" y="3500280"/>
            <a:ext cx="4437000" cy="3214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9"/>
          <p:cNvSpPr/>
          <p:nvPr/>
        </p:nvSpPr>
        <p:spPr>
          <a:xfrm>
            <a:off x="4357800" y="3500280"/>
            <a:ext cx="47862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рминальная почечная недостаточность (гемодиализ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159" name="Номер слайда 7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21D1-CBA1-4AB7-B565-C0865D280F97}" type="slidenum"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УКТУРА ИСПОЛЬЗОВАНИЯ ФИНАНСОВЫХ СРЕДСТВ РЕГИОНАЛЬНОГО БЮДЖЕТА ДЛЯ ЛЕЧЕНИЯ ПАЦИ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ХРОНИЧЕСКИМИ ЗАБОЛЕВАНИЯМИ (ПО ИТОГАМ 2013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ject 8" descr=""/>
          <p:cNvPicPr/>
          <p:nvPr/>
        </p:nvPicPr>
        <p:blipFill>
          <a:blip r:embed="rId2"/>
          <a:stretch/>
        </p:blipFill>
        <p:spPr>
          <a:xfrm>
            <a:off x="214200" y="1428840"/>
            <a:ext cx="8707680" cy="5000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7"/>
          <p:cNvSpPr/>
          <p:nvPr/>
        </p:nvSpPr>
        <p:spPr>
          <a:xfrm>
            <a:off x="0" y="0"/>
            <a:ext cx="807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ЪЕМ СРЕДСТВ, ПРЕДУСМОТРЕННЫЙ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ЬГОТНОЕ ЛЕКАРСТВЕННОЕ ОБЕСПЕЧЕНИЕ (МЛН. 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РЕГИОНАЛЬНАЯ ЛЬГО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одержимое 5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572680" cy="3571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666720"/>
          </a:xfrm>
          <a:prstGeom prst="rect">
            <a:avLst/>
          </a:prstGeom>
          <a:ln w="0">
            <a:noFill/>
          </a:ln>
        </p:spPr>
      </p:pic>
      <p:sp>
        <p:nvSpPr>
          <p:cNvPr id="165" name="Номер слайда 10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F18E-70BC-4195-A56A-793D0E5C6B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6"/>
          <p:cNvSpPr/>
          <p:nvPr/>
        </p:nvSpPr>
        <p:spPr>
          <a:xfrm>
            <a:off x="0" y="491976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Примечание:  рассчитано исходя из федерального норматива  финансовых затрат  на одного льготника согласно Федерального закона № 355-ФЗ от 21.12.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состоянию на 01.09.201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дено 204 аукциона на общую сумму 476,587 млн. руб. 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мещено 34 аукционов на общую сумму 99,797 млн.руб. 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тадии размещения 5 аукционов на общую сумму 26,13 млн.руб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9"/>
          <p:cNvSpPr/>
          <p:nvPr/>
        </p:nvSpPr>
        <p:spPr>
          <a:xfrm>
            <a:off x="1071720" y="4529160"/>
            <a:ext cx="14256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0"/>
          <p:cNvSpPr/>
          <p:nvPr/>
        </p:nvSpPr>
        <p:spPr>
          <a:xfrm>
            <a:off x="1285920" y="4386240"/>
            <a:ext cx="278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тверждено средств регионального бюджета по состоян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1"/>
          <p:cNvSpPr/>
          <p:nvPr/>
        </p:nvSpPr>
        <p:spPr>
          <a:xfrm>
            <a:off x="4786200" y="4529160"/>
            <a:ext cx="142920" cy="142920"/>
          </a:xfrm>
          <a:prstGeom prst="rect">
            <a:avLst/>
          </a:prstGeom>
          <a:solidFill>
            <a:srgbClr val="9bbb59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2"/>
          <p:cNvSpPr/>
          <p:nvPr/>
        </p:nvSpPr>
        <p:spPr>
          <a:xfrm>
            <a:off x="5000760" y="4386240"/>
            <a:ext cx="278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тверждено средств регионального бюджета по состоянию на 11.08.2014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3"/>
          <p:cNvSpPr/>
          <p:nvPr/>
        </p:nvSpPr>
        <p:spPr>
          <a:xfrm>
            <a:off x="1071720" y="4857840"/>
            <a:ext cx="142560" cy="142920"/>
          </a:xfrm>
          <a:prstGeom prst="rect">
            <a:avLst/>
          </a:prstGeom>
          <a:solidFill>
            <a:srgbClr val="953735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4"/>
          <p:cNvSpPr/>
          <p:nvPr/>
        </p:nvSpPr>
        <p:spPr>
          <a:xfrm>
            <a:off x="1357200" y="4826160"/>
            <a:ext cx="278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н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5"/>
          <p:cNvSpPr/>
          <p:nvPr/>
        </p:nvSpPr>
        <p:spPr>
          <a:xfrm>
            <a:off x="4786200" y="4857840"/>
            <a:ext cx="1429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6"/>
          <p:cNvSpPr/>
          <p:nvPr/>
        </p:nvSpPr>
        <p:spPr>
          <a:xfrm>
            <a:off x="4929120" y="4826160"/>
            <a:ext cx="278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четная потребность на 2014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7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4E90-D2AF-4869-9ECE-A4110D445385}" type="slidenum"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РЕДНЯЯ СТОИМОСТЬ ОДНОГО РЕЦЕПТА В РУБЛЯХ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РЕГИОНАЛЬНОЙ ЛЬГ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Диаграмма 5" descr=""/>
          <p:cNvPicPr/>
          <p:nvPr/>
        </p:nvPicPr>
        <p:blipFill>
          <a:blip r:embed="rId2"/>
          <a:stretch/>
        </p:blipFill>
        <p:spPr>
          <a:xfrm>
            <a:off x="0" y="0"/>
            <a:ext cx="8862840" cy="6437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Заголовок 1"/>
          <p:cNvSpPr/>
          <p:nvPr/>
        </p:nvSpPr>
        <p:spPr>
          <a:xfrm>
            <a:off x="0" y="0"/>
            <a:ext cx="8072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ИНАНСОВОЕ ОБЕСПЕЧЕНИЕ ИЗ РАСЧ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ОДНОГО ЛЬГОТОПОЛУЧАТЕЛЯ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1"/>
          <p:cNvSpPr/>
          <p:nvPr/>
        </p:nvSpPr>
        <p:spPr>
          <a:xfrm>
            <a:off x="8286840" y="649296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15D4-8067-4B39-A1EA-D4FCE68684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42920" y="1357200"/>
          <a:ext cx="8786880" cy="4311720"/>
        </p:xfrm>
        <a:graphic>
          <a:graphicData uri="http://schemas.openxmlformats.org/drawingml/2006/table">
            <a:tbl>
              <a:tblPr/>
              <a:tblGrid>
                <a:gridCol w="1778040"/>
                <a:gridCol w="1517400"/>
                <a:gridCol w="1406520"/>
                <a:gridCol w="1406520"/>
                <a:gridCol w="1339920"/>
                <a:gridCol w="1338480"/>
              </a:tblGrid>
              <a:tr h="1399320"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убъект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Численность населени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ыс.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Объем средств, предусмотренных в бюджете субъекта РФ на льготное лекарственное обеспечение (за счет средств субъекта РФ)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асход на одного льготополучателя/мес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01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01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01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01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Мурман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8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00 33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67 05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1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4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47808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рхангель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21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99 8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11 46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2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5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Ленинград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73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75 7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04 72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1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9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овосибир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 68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61 5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72 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3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ологод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19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0 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80 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10:27:56Z</dcterms:created>
  <dc:creator>Ковалев</dc:creator>
  <dc:description/>
  <dc:language>en-US</dc:language>
  <cp:lastModifiedBy>Ushakoval</cp:lastModifiedBy>
  <dcterms:modified xsi:type="dcterms:W3CDTF">2014-09-05T11:51:28Z</dcterms:modified>
  <cp:revision>440</cp:revision>
  <dc:subject/>
  <dc:title>Слайд 1</dc:title>
</cp:coreProperties>
</file>